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AAF-3A1A-4D34-B308-6B33C828A3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CEDE-4F03-4332-878E-6862A5190F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C505-D3B7-4676-9849-4BD8643962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688-10B0-4183-9720-0B877739C0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7FD-FD5A-40BB-9171-7EAA243FDE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913-8CE1-4AA3-ABF5-0ACEE73C85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832-EE8F-4C03-A48B-F8DA38B97D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BA7-F30E-4A60-A799-9493312621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32F-9839-4D4A-836A-3F3E58EBB3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16B-D9CA-4938-ABEE-8E5511798B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85F-3BDC-4EA0-9690-47DAC78FC5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D83-66D9-440C-A7C5-97B9BE4B17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9A65-5E98-4024-8449-FE09577994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D88-E95F-4D6A-A185-270D14CD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CC5-D419-4A72-B2F8-8F6FB22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EE0-3632-493D-8CF0-13F3E72F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154-C132-4C47-B321-3761706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814-29FB-4A58-B807-8B2C16D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8D7-E707-47D1-AE7E-766A667B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FF3-5875-41EC-8FF7-0DC263B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2E2-F03D-4A8E-896A-995B886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E7C-B727-4353-8F04-77AB71C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CF5-BE05-4F09-A25C-0C68739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0C6-FF21-4A5A-B693-E665BC9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B19-974B-4686-990B-16ABBF5B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C970-878F-4798-B618-E68DE6CC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7D0-0A45-46DC-8FA8-040515E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A734-CEAA-4221-BF6D-613D6505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4F8-B49B-4645-8549-B748E70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6D9-0857-47E7-AA24-645AB41E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AFD3-BC92-4018-AA44-E5A5E22F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E35-6E61-4F34-A851-6030B6DC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BA0E-F10F-42A9-BDE3-4692681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9A9-B3CC-42D6-A6A8-3BC8ECB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FD9-54BD-4733-994F-0698B28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125-BEB2-499A-9723-AC8CA601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616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469000" y="169236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29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5616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469000" y="3883320"/>
            <a:ext cx="372636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41A1-DF84-4E9F-BD79-31D9449C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2960" y="288360"/>
            <a:ext cx="11572920" cy="55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72880" y="388332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2880" y="1692360"/>
            <a:ext cx="56473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" y="3883320"/>
            <a:ext cx="1157292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64F0-23D1-4CE9-905A-6482EE8B65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42960" y="288360"/>
            <a:ext cx="115729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42960" y="1692360"/>
            <a:ext cx="115729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4"/>
            </a:gs>
            <a:gs pos="100000">
              <a:srgbClr val="babb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:\Temp\400页超强PPT模板\花PNG\65789.png"/>
          <p:cNvPicPr/>
          <p:nvPr/>
        </p:nvPicPr>
        <p:blipFill>
          <a:blip r:embed="rId3"/>
          <a:srcRect l="0" t="0" r="9570" b="0"/>
          <a:stretch/>
        </p:blipFill>
        <p:spPr>
          <a:xfrm rot="9390600">
            <a:off x="-2328480" y="-4763880"/>
            <a:ext cx="3108240" cy="692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:\Temp\400页超强PPT模板\花PNG\65789.png"/>
          <p:cNvPicPr/>
          <p:nvPr/>
        </p:nvPicPr>
        <p:blipFill>
          <a:blip r:embed="rId4"/>
          <a:srcRect l="0" t="0" r="9570" b="0"/>
          <a:stretch/>
        </p:blipFill>
        <p:spPr>
          <a:xfrm rot="2472000">
            <a:off x="11906280" y="-6949800"/>
            <a:ext cx="4373640" cy="974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858840" cy="7232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642960" y="6703560"/>
            <a:ext cx="3000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4392360" y="6703560"/>
            <a:ext cx="4073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9214920" y="6703560"/>
            <a:ext cx="3000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0A0-5739-46FB-88A6-DAFB91799A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8" descr=""/>
          <p:cNvPicPr/>
          <p:nvPr/>
        </p:nvPicPr>
        <p:blipFill>
          <a:blip r:embed="rId1"/>
          <a:stretch/>
        </p:blipFill>
        <p:spPr>
          <a:xfrm>
            <a:off x="9831240" y="1039680"/>
            <a:ext cx="720720" cy="73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2"/>
          <a:stretch/>
        </p:blipFill>
        <p:spPr>
          <a:xfrm>
            <a:off x="11022120" y="5151600"/>
            <a:ext cx="538200" cy="5191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" descr=""/>
          <p:cNvPicPr/>
          <p:nvPr/>
        </p:nvPicPr>
        <p:blipFill>
          <a:blip r:embed="rId3"/>
          <a:stretch/>
        </p:blipFill>
        <p:spPr>
          <a:xfrm>
            <a:off x="11560320" y="1039680"/>
            <a:ext cx="436320" cy="4352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6" descr=""/>
          <p:cNvPicPr/>
          <p:nvPr/>
        </p:nvPicPr>
        <p:blipFill>
          <a:blip r:embed="rId4"/>
          <a:stretch/>
        </p:blipFill>
        <p:spPr>
          <a:xfrm>
            <a:off x="12322080" y="50760"/>
            <a:ext cx="368280" cy="3650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"/>
          <p:cNvPicPr/>
          <p:nvPr/>
        </p:nvPicPr>
        <p:blipFill>
          <a:blip r:embed="rId5"/>
          <a:srcRect l="22575" t="0" r="22575" b="0"/>
          <a:stretch/>
        </p:blipFill>
        <p:spPr>
          <a:xfrm>
            <a:off x="9953640" y="4984920"/>
            <a:ext cx="324000" cy="3315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8" descr=""/>
          <p:cNvPicPr/>
          <p:nvPr/>
        </p:nvPicPr>
        <p:blipFill>
          <a:blip r:embed="rId6"/>
          <a:srcRect l="0" t="-1864" r="0" b="-1864"/>
          <a:stretch/>
        </p:blipFill>
        <p:spPr>
          <a:xfrm>
            <a:off x="12238200" y="414036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9" descr=""/>
          <p:cNvPicPr/>
          <p:nvPr/>
        </p:nvPicPr>
        <p:blipFill>
          <a:blip r:embed="rId7"/>
          <a:stretch/>
        </p:blipFill>
        <p:spPr>
          <a:xfrm>
            <a:off x="11194920" y="2219400"/>
            <a:ext cx="730440" cy="726840"/>
          </a:xfrm>
          <a:prstGeom prst="rect">
            <a:avLst/>
          </a:prstGeom>
          <a:ln w="0">
            <a:noFill/>
          </a:ln>
        </p:spPr>
      </p:pic>
      <p:sp>
        <p:nvSpPr>
          <p:cNvPr id="172" name="直接连接符 23"/>
          <p:cNvSpPr/>
          <p:nvPr/>
        </p:nvSpPr>
        <p:spPr>
          <a:xfrm>
            <a:off x="2725560" y="3598920"/>
            <a:ext cx="7407360" cy="0"/>
          </a:xfrm>
          <a:prstGeom prst="line">
            <a:avLst/>
          </a:prstGeom>
          <a:ln w="9360">
            <a:solidFill>
              <a:srgbClr val="004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F:\Temp\400页超强PPT模板\花PNG\65789.png"/>
          <p:cNvPicPr/>
          <p:nvPr/>
        </p:nvPicPr>
        <p:blipFill>
          <a:blip r:embed="rId8"/>
          <a:srcRect l="0" t="0" r="0" b="9571"/>
          <a:stretch/>
        </p:blipFill>
        <p:spPr>
          <a:xfrm>
            <a:off x="1481040" y="2946240"/>
            <a:ext cx="9744120" cy="4373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1"/>
          <p:cNvSpPr/>
          <p:nvPr/>
        </p:nvSpPr>
        <p:spPr>
          <a:xfrm>
            <a:off x="7724880" y="31687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報告人：政高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C:\Users\user\AppData\Local\Microsoft\Windows\Temporary Internet Files\Content.IE5\NCMCHAU2\政高logo向量檔-01.png"/>
          <p:cNvPicPr/>
          <p:nvPr/>
        </p:nvPicPr>
        <p:blipFill>
          <a:blip r:embed="rId9"/>
          <a:stretch/>
        </p:blipFill>
        <p:spPr>
          <a:xfrm>
            <a:off x="92160" y="-71280"/>
            <a:ext cx="21096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矩形 259"/>
          <p:cNvSpPr/>
          <p:nvPr/>
        </p:nvSpPr>
        <p:spPr>
          <a:xfrm>
            <a:off x="2203560" y="866880"/>
            <a:ext cx="10580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1" lang="zh-TW" sz="3200" spc="-1" strike="noStrike">
                <a:solidFill>
                  <a:srgbClr val="004193"/>
                </a:solidFill>
                <a:latin typeface="標楷體"/>
                <a:ea typeface="標楷體"/>
              </a:rPr>
              <a:t>桃連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級中等學校免試入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完全免試報名系統說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9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內容版面配置區 2"/>
          <p:cNvSpPr/>
          <p:nvPr/>
        </p:nvSpPr>
        <p:spPr>
          <a:xfrm>
            <a:off x="2612880" y="2103480"/>
            <a:ext cx="83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學生端</a:t>
            </a:r>
            <a:r>
              <a:rPr b="1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登入（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帳號、密碼與免試相同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完免志願選填方式與免試類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學生限選擇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一校一科</a:t>
            </a: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報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志願選填開放期間尚未列印報名表前，可無限次修改志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安全性考量，在選填志願期間若要離開位置，務必先登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20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綵帶 (向上) 1"/>
          <p:cNvSpPr/>
          <p:nvPr/>
        </p:nvSpPr>
        <p:spPr>
          <a:xfrm>
            <a:off x="1604880" y="376200"/>
            <a:ext cx="4248360" cy="1368360"/>
          </a:xfrm>
          <a:custGeom>
            <a:avLst/>
            <a:gdLst>
              <a:gd name="textAreaLeft" fmla="*/ 664920 w 4248360"/>
              <a:gd name="textAreaRight" fmla="*/ 3583440 w 4248360"/>
              <a:gd name="textAreaTop" fmla="*/ 0 h 1368360"/>
              <a:gd name="textAreaBottom" fmla="*/ 1094400 h 1368360"/>
            </a:gdLst>
            <a:ahLst/>
            <a:rect l="textAreaLeft" t="textAreaTop" r="textAreaRight" b="textAreaBottom"/>
            <a:pathLst>
              <a:path w="21600" h="21600">
                <a:moveTo>
                  <a:pt x="6081" y="17271"/>
                </a:moveTo>
                <a:lnTo>
                  <a:pt x="6081" y="20518"/>
                </a:lnTo>
                <a:cubicBezTo>
                  <a:pt x="6081" y="21059"/>
                  <a:pt x="5661" y="21600"/>
                  <a:pt x="5241" y="21600"/>
                </a:cubicBezTo>
                <a:lnTo>
                  <a:pt x="0" y="21600"/>
                </a:lnTo>
                <a:lnTo>
                  <a:pt x="2750" y="12965"/>
                </a:lnTo>
                <a:lnTo>
                  <a:pt x="0" y="4329"/>
                </a:lnTo>
                <a:lnTo>
                  <a:pt x="3381" y="4329"/>
                </a:lnTo>
                <a:lnTo>
                  <a:pt x="3381" y="1082"/>
                </a:lnTo>
                <a:cubicBezTo>
                  <a:pt x="3381" y="541"/>
                  <a:pt x="3801" y="0"/>
                  <a:pt x="4221" y="0"/>
                </a:cubicBezTo>
                <a:lnTo>
                  <a:pt x="17379" y="0"/>
                </a:lnTo>
                <a:cubicBezTo>
                  <a:pt x="17799" y="0"/>
                  <a:pt x="18219" y="541"/>
                  <a:pt x="18219" y="1082"/>
                </a:cubicBezTo>
                <a:lnTo>
                  <a:pt x="18219" y="4329"/>
                </a:lnTo>
                <a:lnTo>
                  <a:pt x="21600" y="4329"/>
                </a:lnTo>
                <a:lnTo>
                  <a:pt x="18850" y="12965"/>
                </a:lnTo>
                <a:lnTo>
                  <a:pt x="21600" y="21600"/>
                </a:lnTo>
                <a:lnTo>
                  <a:pt x="16359" y="21600"/>
                </a:lnTo>
                <a:cubicBezTo>
                  <a:pt x="15939" y="21600"/>
                  <a:pt x="15519" y="21059"/>
                  <a:pt x="15519" y="20518"/>
                </a:cubicBezTo>
                <a:lnTo>
                  <a:pt x="15519" y="17271"/>
                </a:lnTo>
                <a:close/>
              </a:path>
              <a:path fill="darkenLess" w="21600" h="21600">
                <a:moveTo>
                  <a:pt x="6081" y="17271"/>
                </a:moveTo>
                <a:lnTo>
                  <a:pt x="6081" y="20518"/>
                </a:lnTo>
                <a:cubicBezTo>
                  <a:pt x="6081" y="19977"/>
                  <a:pt x="5661" y="19436"/>
                  <a:pt x="5241" y="19436"/>
                </a:cubicBezTo>
                <a:lnTo>
                  <a:pt x="4221" y="19436"/>
                </a:lnTo>
                <a:cubicBezTo>
                  <a:pt x="3801" y="19436"/>
                  <a:pt x="3381" y="18894"/>
                  <a:pt x="3381" y="18353"/>
                </a:cubicBezTo>
                <a:cubicBezTo>
                  <a:pt x="3381" y="17812"/>
                  <a:pt x="3801" y="17271"/>
                  <a:pt x="4221" y="17271"/>
                </a:cubicBezTo>
                <a:close/>
              </a:path>
              <a:path fill="darkenLess" w="21600" h="21600">
                <a:moveTo>
                  <a:pt x="15519" y="17271"/>
                </a:moveTo>
                <a:lnTo>
                  <a:pt x="15519" y="20518"/>
                </a:lnTo>
                <a:cubicBezTo>
                  <a:pt x="15519" y="19977"/>
                  <a:pt x="15939" y="19436"/>
                  <a:pt x="16359" y="19436"/>
                </a:cubicBezTo>
                <a:lnTo>
                  <a:pt x="17379" y="19436"/>
                </a:lnTo>
                <a:cubicBezTo>
                  <a:pt x="17799" y="19436"/>
                  <a:pt x="18219" y="18894"/>
                  <a:pt x="18219" y="18353"/>
                </a:cubicBezTo>
                <a:cubicBezTo>
                  <a:pt x="18219" y="17812"/>
                  <a:pt x="17799" y="17271"/>
                  <a:pt x="17379" y="17271"/>
                </a:cubicBezTo>
                <a:close/>
              </a:path>
              <a:path fill="darkenLess" w="21600" h="21600">
                <a:moveTo>
                  <a:pt x="3381" y="18353"/>
                </a:moveTo>
                <a:lnTo>
                  <a:pt x="3381" y="4329"/>
                </a:lnTo>
              </a:path>
              <a:path fill="darkenLess" w="21600" h="21600">
                <a:moveTo>
                  <a:pt x="18219" y="18353"/>
                </a:moveTo>
                <a:lnTo>
                  <a:pt x="18219" y="4329"/>
                </a:lnTo>
              </a:path>
            </a:pathLst>
          </a:custGeom>
          <a:solidFill>
            <a:srgbClr val="ffe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238"/>
                </a:solidFill>
                <a:latin typeface="微軟正黑體"/>
                <a:ea typeface="微軟正黑體"/>
              </a:rPr>
              <a:t>完全免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238"/>
                </a:solidFill>
                <a:latin typeface="微軟正黑體"/>
                <a:ea typeface="微軟正黑體"/>
              </a:rPr>
              <a:t>志願選填提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5845320" y="1908000"/>
            <a:ext cx="6800760" cy="5158080"/>
          </a:xfrm>
          <a:prstGeom prst="rect">
            <a:avLst/>
          </a:prstGeom>
          <a:ln w="0">
            <a:noFill/>
          </a:ln>
        </p:spPr>
      </p:pic>
      <p:sp>
        <p:nvSpPr>
          <p:cNvPr id="232" name="矩形 20"/>
          <p:cNvSpPr/>
          <p:nvPr/>
        </p:nvSpPr>
        <p:spPr>
          <a:xfrm>
            <a:off x="1037880" y="90324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4"/>
          <p:cNvSpPr/>
          <p:nvPr/>
        </p:nvSpPr>
        <p:spPr>
          <a:xfrm>
            <a:off x="104868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2636640" y="33336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志願選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字方塊 8"/>
          <p:cNvSpPr/>
          <p:nvPr/>
        </p:nvSpPr>
        <p:spPr>
          <a:xfrm>
            <a:off x="650880" y="1709640"/>
            <a:ext cx="41878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校一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相關作業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完免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)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閱讀注意事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條件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下拉選單篩選 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地區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類別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公私立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群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欲加入科組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下拉選單篩選 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學校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、</a:t>
            </a:r>
            <a:r>
              <a:rPr b="1" lang="zh-TW" sz="18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科組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加入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【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儲存志願</a:t>
            </a:r>
            <a:r>
              <a:rPr b="0" lang="en-US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系統自動跳轉至</a:t>
            </a:r>
            <a:r>
              <a:rPr b="1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志願選填結果</a:t>
            </a:r>
            <a:r>
              <a:rPr b="0" lang="zh-TW" sz="1800" spc="-1" strike="noStrike">
                <a:solidFill>
                  <a:srgbClr val="4f392b"/>
                </a:solidFill>
                <a:latin typeface="標楷體"/>
                <a:ea typeface="標楷體"/>
              </a:rPr>
              <a:t>頁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4f392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5992920" y="2297160"/>
            <a:ext cx="3752640" cy="107460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5877000" y="3484440"/>
            <a:ext cx="4608360" cy="115272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8791560" y="4213080"/>
            <a:ext cx="504720" cy="36036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8921880" y="5003640"/>
            <a:ext cx="647640" cy="36036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橢圓 5"/>
          <p:cNvSpPr/>
          <p:nvPr/>
        </p:nvSpPr>
        <p:spPr>
          <a:xfrm>
            <a:off x="8321760" y="1189080"/>
            <a:ext cx="447480" cy="4474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橢圓 17"/>
          <p:cNvSpPr/>
          <p:nvPr/>
        </p:nvSpPr>
        <p:spPr>
          <a:xfrm>
            <a:off x="6716880" y="2023920"/>
            <a:ext cx="447480" cy="4464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橢圓 18"/>
          <p:cNvSpPr/>
          <p:nvPr/>
        </p:nvSpPr>
        <p:spPr>
          <a:xfrm>
            <a:off x="6593040" y="3355920"/>
            <a:ext cx="447480" cy="447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橢圓 19"/>
          <p:cNvSpPr/>
          <p:nvPr/>
        </p:nvSpPr>
        <p:spPr>
          <a:xfrm>
            <a:off x="9443880" y="4143240"/>
            <a:ext cx="447840" cy="447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圖片 7" descr=""/>
          <p:cNvPicPr/>
          <p:nvPr/>
        </p:nvPicPr>
        <p:blipFill>
          <a:blip r:embed="rId2"/>
          <a:srcRect l="0" t="0" r="0" b="32875"/>
          <a:stretch/>
        </p:blipFill>
        <p:spPr>
          <a:xfrm>
            <a:off x="5845320" y="165240"/>
            <a:ext cx="2390760" cy="1614240"/>
          </a:xfrm>
          <a:prstGeom prst="rect">
            <a:avLst/>
          </a:prstGeom>
          <a:ln w="0">
            <a:noFill/>
          </a:ln>
        </p:spPr>
      </p:pic>
      <p:sp>
        <p:nvSpPr>
          <p:cNvPr id="246" name="矩形 23"/>
          <p:cNvSpPr/>
          <p:nvPr/>
        </p:nvSpPr>
        <p:spPr>
          <a:xfrm flipV="1">
            <a:off x="5845320" y="1383120"/>
            <a:ext cx="2390760" cy="322200"/>
          </a:xfrm>
          <a:prstGeom prst="rect">
            <a:avLst/>
          </a:prstGeom>
          <a:noFill/>
          <a:ln w="3816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橢圓 24"/>
          <p:cNvSpPr/>
          <p:nvPr/>
        </p:nvSpPr>
        <p:spPr>
          <a:xfrm>
            <a:off x="9705960" y="4824360"/>
            <a:ext cx="446040" cy="4460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8" descr=""/>
          <p:cNvPicPr/>
          <p:nvPr/>
        </p:nvPicPr>
        <p:blipFill>
          <a:blip r:embed="rId1"/>
          <a:stretch/>
        </p:blipFill>
        <p:spPr>
          <a:xfrm>
            <a:off x="9831240" y="1039680"/>
            <a:ext cx="720720" cy="7383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" descr=""/>
          <p:cNvPicPr/>
          <p:nvPr/>
        </p:nvPicPr>
        <p:blipFill>
          <a:blip r:embed="rId2"/>
          <a:stretch/>
        </p:blipFill>
        <p:spPr>
          <a:xfrm>
            <a:off x="10893600" y="5857920"/>
            <a:ext cx="537840" cy="5191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0" descr=""/>
          <p:cNvPicPr/>
          <p:nvPr/>
        </p:nvPicPr>
        <p:blipFill>
          <a:blip r:embed="rId3"/>
          <a:stretch/>
        </p:blipFill>
        <p:spPr>
          <a:xfrm>
            <a:off x="11560320" y="1039680"/>
            <a:ext cx="436320" cy="43524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6" descr=""/>
          <p:cNvPicPr/>
          <p:nvPr/>
        </p:nvPicPr>
        <p:blipFill>
          <a:blip r:embed="rId4"/>
          <a:stretch/>
        </p:blipFill>
        <p:spPr>
          <a:xfrm>
            <a:off x="12322080" y="50760"/>
            <a:ext cx="368280" cy="36504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7" descr=""/>
          <p:cNvPicPr/>
          <p:nvPr/>
        </p:nvPicPr>
        <p:blipFill>
          <a:blip r:embed="rId5"/>
          <a:srcRect l="22575" t="0" r="22575" b="0"/>
          <a:stretch/>
        </p:blipFill>
        <p:spPr>
          <a:xfrm>
            <a:off x="9953640" y="4984920"/>
            <a:ext cx="324000" cy="3315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8" descr=""/>
          <p:cNvPicPr/>
          <p:nvPr/>
        </p:nvPicPr>
        <p:blipFill>
          <a:blip r:embed="rId6"/>
          <a:srcRect l="0" t="-1864" r="0" b="-1864"/>
          <a:stretch/>
        </p:blipFill>
        <p:spPr>
          <a:xfrm>
            <a:off x="8158320" y="186048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9" descr=""/>
          <p:cNvPicPr/>
          <p:nvPr/>
        </p:nvPicPr>
        <p:blipFill>
          <a:blip r:embed="rId7"/>
          <a:stretch/>
        </p:blipFill>
        <p:spPr>
          <a:xfrm>
            <a:off x="11194920" y="2219400"/>
            <a:ext cx="730440" cy="726840"/>
          </a:xfrm>
          <a:prstGeom prst="rect">
            <a:avLst/>
          </a:prstGeom>
          <a:ln w="0">
            <a:noFill/>
          </a:ln>
        </p:spPr>
      </p:pic>
      <p:sp>
        <p:nvSpPr>
          <p:cNvPr id="255" name="矩形 259"/>
          <p:cNvSpPr/>
          <p:nvPr/>
        </p:nvSpPr>
        <p:spPr>
          <a:xfrm>
            <a:off x="2390760" y="2782800"/>
            <a:ext cx="788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iner Hand ITC"/>
                <a:ea typeface="微软雅黑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接连接符 23"/>
          <p:cNvSpPr/>
          <p:nvPr/>
        </p:nvSpPr>
        <p:spPr>
          <a:xfrm>
            <a:off x="2725560" y="3598920"/>
            <a:ext cx="7407360" cy="0"/>
          </a:xfrm>
          <a:prstGeom prst="line">
            <a:avLst/>
          </a:prstGeom>
          <a:ln w="9360">
            <a:solidFill>
              <a:srgbClr val="004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F:\Temp\400页超强PPT模板\花PNG\65789.png"/>
          <p:cNvPicPr/>
          <p:nvPr/>
        </p:nvPicPr>
        <p:blipFill>
          <a:blip r:embed="rId8"/>
          <a:srcRect l="0" t="0" r="0" b="9571"/>
          <a:stretch/>
        </p:blipFill>
        <p:spPr>
          <a:xfrm>
            <a:off x="1460520" y="2963880"/>
            <a:ext cx="9744120" cy="4373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9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1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1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1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1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Temp\400页超强PPT模板\花PNG\57275d238f2bd [转换].png"/>
          <p:cNvPicPr/>
          <p:nvPr/>
        </p:nvPicPr>
        <p:blipFill>
          <a:blip r:embed="rId1"/>
          <a:stretch/>
        </p:blipFill>
        <p:spPr>
          <a:xfrm>
            <a:off x="3765600" y="1192320"/>
            <a:ext cx="4932360" cy="22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178" name="TextBox 15"/>
          <p:cNvSpPr/>
          <p:nvPr/>
        </p:nvSpPr>
        <p:spPr>
          <a:xfrm>
            <a:off x="3405240" y="36878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【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國中端操作說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25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25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25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25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25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圖片 4" descr=""/>
          <p:cNvPicPr/>
          <p:nvPr/>
        </p:nvPicPr>
        <p:blipFill>
          <a:blip r:embed="rId1"/>
          <a:srcRect l="0" t="11677" r="0" b="5199"/>
          <a:stretch/>
        </p:blipFill>
        <p:spPr>
          <a:xfrm>
            <a:off x="812880" y="1671480"/>
            <a:ext cx="10532880" cy="4926240"/>
          </a:xfrm>
          <a:prstGeom prst="rect">
            <a:avLst/>
          </a:prstGeom>
          <a:ln w="0">
            <a:noFill/>
          </a:ln>
        </p:spPr>
      </p:pic>
      <p:sp>
        <p:nvSpPr>
          <p:cNvPr id="18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3969720" y="568440"/>
            <a:ext cx="2619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登入完全免試作業系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4"/>
          <p:cNvSpPr/>
          <p:nvPr/>
        </p:nvSpPr>
        <p:spPr>
          <a:xfrm>
            <a:off x="926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1028880" y="1376280"/>
            <a:ext cx="7392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連結免試平臺網址入口，點選頁面上的【</a:t>
            </a:r>
            <a:r>
              <a:rPr b="0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完全免試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4844880" y="4626000"/>
            <a:ext cx="2305080" cy="1293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向上箭號圖說文字 12"/>
          <p:cNvSpPr/>
          <p:nvPr/>
        </p:nvSpPr>
        <p:spPr>
          <a:xfrm>
            <a:off x="3379680" y="5273640"/>
            <a:ext cx="5400720" cy="1841400"/>
          </a:xfrm>
          <a:prstGeom prst="upArrowCallout">
            <a:avLst>
              <a:gd name="adj1" fmla="val 16757"/>
              <a:gd name="adj2" fmla="val 66399"/>
              <a:gd name="adj3" fmla="val 25000"/>
              <a:gd name="adj4" fmla="val 70041"/>
            </a:avLst>
          </a:prstGeom>
          <a:solidFill>
            <a:srgbClr val="ffff00"/>
          </a:solidFill>
          <a:ln w="1260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*</a:t>
            </a:r>
            <a:r>
              <a:rPr b="0" lang="zh-TW" sz="3600" spc="-1" strike="noStrike" u="sng">
                <a:solidFill>
                  <a:srgbClr val="002060"/>
                </a:solidFill>
                <a:uFillTx/>
                <a:latin typeface="標楷體"/>
                <a:ea typeface="標楷體"/>
              </a:rPr>
              <a:t>帳號密碼同</a:t>
            </a:r>
            <a:r>
              <a:rPr b="0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免試入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2044800" y="298440"/>
            <a:ext cx="404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學生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資格設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4"/>
          <p:cNvSpPr/>
          <p:nvPr/>
        </p:nvSpPr>
        <p:spPr>
          <a:xfrm>
            <a:off x="97488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2166120" y="1236600"/>
            <a:ext cx="29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【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裡的【</a:t>
            </a:r>
            <a:r>
              <a:rPr b="0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學生資料轉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內容版面配置區 2"/>
          <p:cNvSpPr/>
          <p:nvPr/>
        </p:nvSpPr>
        <p:spPr>
          <a:xfrm>
            <a:off x="1658880" y="3378240"/>
            <a:ext cx="8893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勾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要參加完免的學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點選【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設定完免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】按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3798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圖片 2" descr=""/>
          <p:cNvPicPr/>
          <p:nvPr/>
        </p:nvPicPr>
        <p:blipFill>
          <a:blip r:embed="rId1"/>
          <a:stretch/>
        </p:blipFill>
        <p:spPr>
          <a:xfrm>
            <a:off x="1635120" y="1843200"/>
            <a:ext cx="709776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圖片 1" descr=""/>
          <p:cNvPicPr/>
          <p:nvPr/>
        </p:nvPicPr>
        <p:blipFill>
          <a:blip r:embed="rId2"/>
          <a:stretch/>
        </p:blipFill>
        <p:spPr>
          <a:xfrm>
            <a:off x="1635120" y="4768920"/>
            <a:ext cx="7381800" cy="220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/>
          <p:cNvSpPr/>
          <p:nvPr/>
        </p:nvSpPr>
        <p:spPr>
          <a:xfrm>
            <a:off x="98280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1028880" y="1260360"/>
            <a:ext cx="101311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若需更改學生基本資料，需先回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免試作業平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點選學生明細修正後儲存，再回到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完免作業平台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0" lang="zh-TW" sz="24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學生資料轉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頁面，勾選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更新資料的學生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點選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更新已設定完免之學生資料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按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圖片 1" descr=""/>
          <p:cNvPicPr/>
          <p:nvPr/>
        </p:nvPicPr>
        <p:blipFill>
          <a:blip r:embed="rId1"/>
          <a:stretch/>
        </p:blipFill>
        <p:spPr>
          <a:xfrm>
            <a:off x="1965240" y="2824200"/>
            <a:ext cx="7691400" cy="17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向下箭號 17"/>
          <p:cNvSpPr/>
          <p:nvPr/>
        </p:nvSpPr>
        <p:spPr>
          <a:xfrm>
            <a:off x="6470640" y="4478400"/>
            <a:ext cx="308160" cy="290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字方塊 3"/>
          <p:cNvSpPr/>
          <p:nvPr/>
        </p:nvSpPr>
        <p:spPr>
          <a:xfrm>
            <a:off x="2108160" y="22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提醒您</a:t>
            </a:r>
            <a:r>
              <a:rPr b="0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圖片 1" descr=""/>
          <p:cNvPicPr/>
          <p:nvPr/>
        </p:nvPicPr>
        <p:blipFill>
          <a:blip r:embed="rId2"/>
          <a:stretch/>
        </p:blipFill>
        <p:spPr>
          <a:xfrm>
            <a:off x="2135160" y="4840200"/>
            <a:ext cx="7381800" cy="22003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4"/>
          <p:cNvSpPr/>
          <p:nvPr/>
        </p:nvSpPr>
        <p:spPr>
          <a:xfrm>
            <a:off x="9734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801880" y="30168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查詢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學生選填情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內容版面配置區 2"/>
          <p:cNvSpPr/>
          <p:nvPr/>
        </p:nvSpPr>
        <p:spPr>
          <a:xfrm>
            <a:off x="1028880" y="13809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點選【</a:t>
            </a:r>
            <a:r>
              <a:rPr b="1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】裡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_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選填志願設定與查詢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1963080" y="1943280"/>
            <a:ext cx="2115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志願可看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已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」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未選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點選學生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志願明細</a:t>
            </a:r>
            <a:r>
              <a:rPr b="0" lang="zh-TW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查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圖片 1" descr=""/>
          <p:cNvPicPr/>
          <p:nvPr/>
        </p:nvPicPr>
        <p:blipFill>
          <a:blip r:embed="rId1"/>
          <a:stretch/>
        </p:blipFill>
        <p:spPr>
          <a:xfrm>
            <a:off x="5276880" y="2368440"/>
            <a:ext cx="6886440" cy="45054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4"/>
          <p:cNvSpPr/>
          <p:nvPr/>
        </p:nvSpPr>
        <p:spPr>
          <a:xfrm>
            <a:off x="980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"/>
          <p:cNvSpPr/>
          <p:nvPr/>
        </p:nvSpPr>
        <p:spPr>
          <a:xfrm>
            <a:off x="2937240" y="22716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報表與設定報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7183440" y="766800"/>
            <a:ext cx="4035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列印</a:t>
            </a: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【</a:t>
            </a: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完全免試</a:t>
            </a: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】</a:t>
            </a:r>
            <a:r>
              <a:rPr b="1" lang="zh-TW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學生報名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標楷體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1050840" y="2008080"/>
            <a:ext cx="931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62626"/>
                </a:solidFill>
                <a:latin typeface="新細明體"/>
                <a:ea typeface="新細明體"/>
              </a:rPr>
              <a:t>☉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國中端承辦人員收回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*A04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志願表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後，請於完免入學作業系統將學生設定報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1050840" y="1185840"/>
            <a:ext cx="93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62626"/>
                </a:solidFill>
                <a:latin typeface="新細明體"/>
                <a:ea typeface="新細明體"/>
              </a:rPr>
              <a:t>☉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學生選填志願完畢後，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點選【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相關作業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】裡之「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完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確認與表件列印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於列印區下拉選單選擇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【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*A04_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報名志願表</a:t>
            </a:r>
            <a:r>
              <a:rPr b="0" lang="en-US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】</a:t>
            </a:r>
            <a:r>
              <a:rPr b="0" lang="zh-TW" sz="1800" spc="-1" strike="noStrike">
                <a:solidFill>
                  <a:srgbClr val="262626"/>
                </a:solidFill>
                <a:latin typeface="標楷體"/>
                <a:ea typeface="標楷體"/>
              </a:rPr>
              <a:t>列印出來，請學生與家長確認簽名並繳回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圖片 1" descr=""/>
          <p:cNvPicPr/>
          <p:nvPr/>
        </p:nvPicPr>
        <p:blipFill>
          <a:blip r:embed="rId1"/>
          <a:stretch/>
        </p:blipFill>
        <p:spPr>
          <a:xfrm>
            <a:off x="236520" y="2544840"/>
            <a:ext cx="5905440" cy="21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圖片 2" descr=""/>
          <p:cNvPicPr/>
          <p:nvPr/>
        </p:nvPicPr>
        <p:blipFill>
          <a:blip r:embed="rId2"/>
          <a:stretch/>
        </p:blipFill>
        <p:spPr>
          <a:xfrm>
            <a:off x="6284880" y="2529000"/>
            <a:ext cx="65023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圖片 3" descr=""/>
          <p:cNvPicPr/>
          <p:nvPr/>
        </p:nvPicPr>
        <p:blipFill>
          <a:blip r:embed="rId3"/>
          <a:stretch/>
        </p:blipFill>
        <p:spPr>
          <a:xfrm>
            <a:off x="1447920" y="5064120"/>
            <a:ext cx="465912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20"/>
          <p:cNvSpPr/>
          <p:nvPr/>
        </p:nvSpPr>
        <p:spPr>
          <a:xfrm>
            <a:off x="1037880" y="8445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193"/>
                </a:solidFill>
                <a:latin typeface="Arial"/>
                <a:ea typeface="微软雅黑"/>
              </a:rPr>
              <a:t>THE HEAD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2"/>
          <p:cNvSpPr/>
          <p:nvPr/>
        </p:nvSpPr>
        <p:spPr>
          <a:xfrm>
            <a:off x="1045440" y="6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193"/>
                </a:solidFill>
                <a:latin typeface="Arial"/>
                <a:ea typeface="微软雅黑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4"/>
          <p:cNvSpPr/>
          <p:nvPr/>
        </p:nvSpPr>
        <p:spPr>
          <a:xfrm>
            <a:off x="980640" y="2649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193"/>
                </a:solidFill>
                <a:latin typeface="Agency FB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3064320" y="29196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4193"/>
                </a:solidFill>
                <a:latin typeface="標楷體"/>
                <a:ea typeface="標楷體"/>
              </a:rPr>
              <a:t>報表與設定報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內容版面配置區 2"/>
          <p:cNvSpPr/>
          <p:nvPr/>
        </p:nvSpPr>
        <p:spPr>
          <a:xfrm>
            <a:off x="884160" y="1374840"/>
            <a:ext cx="7156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列印</a:t>
            </a:r>
            <a:r>
              <a:rPr b="1" lang="en-US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完全免試</a:t>
            </a:r>
            <a:r>
              <a:rPr b="1" lang="en-US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a36900"/>
                </a:solidFill>
                <a:latin typeface="標楷體"/>
                <a:ea typeface="標楷體"/>
              </a:rPr>
              <a:t>相關總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69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262626"/>
                </a:solidFill>
                <a:latin typeface="標楷體"/>
                <a:ea typeface="標楷體"/>
              </a:rPr>
              <a:t>學生必須先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設定報名</a:t>
            </a:r>
            <a:r>
              <a:rPr b="0" lang="zh-TW" sz="2000" spc="-1" strike="noStrike">
                <a:solidFill>
                  <a:srgbClr val="262626"/>
                </a:solidFill>
                <a:latin typeface="標楷體"/>
                <a:ea typeface="標楷體"/>
              </a:rPr>
              <a:t>後，才可列印相關總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040600" y="2598840"/>
            <a:ext cx="50245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A0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志願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A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人數總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A0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名學生名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A06_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各班報名學生名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5)A0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特殊身分學生清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6)A0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生證明文件影本黏貼表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圖片 2" descr=""/>
          <p:cNvPicPr/>
          <p:nvPr/>
        </p:nvPicPr>
        <p:blipFill>
          <a:blip r:embed="rId1"/>
          <a:stretch/>
        </p:blipFill>
        <p:spPr>
          <a:xfrm>
            <a:off x="452520" y="2598840"/>
            <a:ext cx="7458120" cy="36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F:\Temp\400页超强PPT模板\花PNG\57275d238f2bd [转换].png"/>
          <p:cNvPicPr/>
          <p:nvPr/>
        </p:nvPicPr>
        <p:blipFill>
          <a:blip r:embed="rId1"/>
          <a:stretch/>
        </p:blipFill>
        <p:spPr>
          <a:xfrm>
            <a:off x="3765600" y="1192320"/>
            <a:ext cx="4932360" cy="22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228" name="TextBox 15"/>
          <p:cNvSpPr/>
          <p:nvPr/>
        </p:nvSpPr>
        <p:spPr>
          <a:xfrm>
            <a:off x="3405240" y="36878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【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完全免試</a:t>
            </a:r>
            <a:r>
              <a:rPr b="1" lang="en-US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學生端操作說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2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25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2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25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13:55:06Z</dcterms:created>
  <dc:creator/>
  <dc:description/>
  <dc:language>en-US</dc:language>
  <cp:lastModifiedBy/>
  <dcterms:modified xsi:type="dcterms:W3CDTF">2024-02-29T05:59:34Z</dcterms:modified>
  <cp:revision>1</cp:revision>
  <dc:subject/>
  <dc:title/>
</cp:coreProperties>
</file>